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82B01-9328-4718-B5C2-562F05C48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B1036-0ED1-48C1-9623-EAE430F04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34FEE-6F70-44A7-BC9E-8912AE2F8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4CED5-6693-4027-8EAB-642EE56C5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E5560-D4C9-4F8D-A643-EB42406D7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ECD56-6A89-4318-AF97-F820A48E8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6255B-CF36-4680-A760-0DD1E9FBD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5D85A-DE13-43FE-822F-E5C408E7D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A5092-72EC-4B3F-B5A5-E5601A00F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E5451-6AD9-4E4E-81AD-A31900419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574B6-56BE-470B-A5D5-AFAB73D49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00538-34B6-44AC-B9AA-DD8F53CC0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6D70E-BD72-4A10-A429-6A76FCD61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B81CD-6B03-492B-8C28-B7B08B958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46687-0A58-41C7-BA28-A228DE96D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CF9A7-000F-4120-908B-C080192CD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49147-AE0B-4142-8C60-049C7FD9B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DFA27-5838-4E02-B3D0-31B779E52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EF2A7-FEFB-4DF4-A88A-B61654ED8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B08C1-53EE-42C4-B600-B6D6DB83A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4425F-06A3-4B53-881A-F3EE089F5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FCF3B-0035-4AE1-970C-D42DC225A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3470C-5D39-4891-98A0-049514861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5850F-A050-4F2B-A89C-45C9D7F88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d9efe0"/>
                </a:gs>
                <a:gs pos="100000">
                  <a:srgbClr val="15331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15331e"/>
                </a:gs>
                <a:gs pos="100000">
                  <a:srgbClr val="d9efe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8ba89e"/>
                </a:gs>
                <a:gs pos="50000">
                  <a:srgbClr val="a4c6ba"/>
                </a:gs>
                <a:gs pos="100000">
                  <a:srgbClr val="8ba89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2880" y="129240"/>
                    <a:ext cx="28440" cy="2700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080" bIns="10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720" bIns="-9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040" bIns="14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a08f5e"/>
                </a:gs>
                <a:gs pos="50000">
                  <a:srgbClr val="c1c177"/>
                </a:gs>
                <a:gs pos="100000">
                  <a:srgbClr val="a08f5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27423a"/>
                </a:gs>
                <a:gs pos="50000">
                  <a:srgbClr val="558f7d"/>
                </a:gs>
                <a:gs pos="100000">
                  <a:srgbClr val="27423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a08f5e"/>
                </a:gs>
                <a:gs pos="100000">
                  <a:srgbClr val="d9efe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a08f5e"/>
                </a:gs>
                <a:gs pos="50000">
                  <a:srgbClr val="c1c177"/>
                </a:gs>
                <a:gs pos="100000">
                  <a:srgbClr val="a08f5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d9efe0"/>
                </a:gs>
                <a:gs pos="50000">
                  <a:srgbClr val="a08f5e"/>
                </a:gs>
                <a:gs pos="100000">
                  <a:srgbClr val="d9efe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5331e"/>
                </a:gs>
                <a:gs pos="100000">
                  <a:srgbClr val="d9efe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0605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878C6-8366-4A16-B82B-525BA9747EF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d9efe0"/>
                </a:gs>
                <a:gs pos="100000">
                  <a:srgbClr val="15331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15331e"/>
                </a:gs>
                <a:gs pos="100000">
                  <a:srgbClr val="d9efe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8ba89e"/>
                </a:gs>
                <a:gs pos="50000">
                  <a:srgbClr val="a4c6ba"/>
                </a:gs>
                <a:gs pos="100000">
                  <a:srgbClr val="8ba89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22880" y="129240"/>
                    <a:ext cx="28440" cy="2700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080" bIns="10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720" bIns="-9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040" bIns="14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a08f5e"/>
                </a:gs>
                <a:gs pos="50000">
                  <a:srgbClr val="c1c177"/>
                </a:gs>
                <a:gs pos="100000">
                  <a:srgbClr val="a08f5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27423a"/>
                </a:gs>
                <a:gs pos="50000">
                  <a:srgbClr val="558f7d"/>
                </a:gs>
                <a:gs pos="100000">
                  <a:srgbClr val="27423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a08f5e"/>
                </a:gs>
                <a:gs pos="100000">
                  <a:srgbClr val="d9efe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a08f5e"/>
                </a:gs>
                <a:gs pos="50000">
                  <a:srgbClr val="c1c177"/>
                </a:gs>
                <a:gs pos="100000">
                  <a:srgbClr val="a08f5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d9efe0"/>
                </a:gs>
                <a:gs pos="50000">
                  <a:srgbClr val="a08f5e"/>
                </a:gs>
                <a:gs pos="100000">
                  <a:srgbClr val="d9efe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5331e"/>
                </a:gs>
                <a:gs pos="100000">
                  <a:srgbClr val="d9efe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0605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7ED3E-5601-4D40-AC3F-9217D90B585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3.png"/><Relationship Id="rId16" Type="http://schemas.openxmlformats.org/officeDocument/2006/relationships/image" Target="../media/image3.png"/><Relationship Id="rId17" Type="http://schemas.openxmlformats.org/officeDocument/2006/relationships/image" Target="../media/image3.png"/><Relationship Id="rId1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3.png"/><Relationship Id="rId1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6966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0605a"/>
                </a:solidFill>
                <a:latin typeface="Arial"/>
              </a:rPr>
              <a:t>Le Passé Composé et l’Imparfait</a:t>
            </a:r>
            <a:endParaRPr b="0" lang="en-US" sz="44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Le Plus-que-parfa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0605a"/>
                </a:solidFill>
                <a:latin typeface="Arial"/>
              </a:rPr>
              <a:t>Quelques indices pour le passé composé</a:t>
            </a:r>
            <a:endParaRPr b="0" lang="en-US" sz="44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1620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L’année passé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Le mois derni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D’ab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Enf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Final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Ensu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Pu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Une, deux fo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032000" y="1598760"/>
            <a:ext cx="36176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lusieurs fo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H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’autre jo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e jour-l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Un jo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undi le 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Soud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Tout à c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Tout de su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0605a"/>
                </a:solidFill>
                <a:latin typeface="Arial"/>
              </a:rPr>
              <a:t>A vous maintenant….</a:t>
            </a:r>
            <a:endParaRPr b="0" lang="en-US" sz="44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63520" y="837720"/>
            <a:ext cx="7386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Le jeune homme poli, qui (porter) un costume élégant, (se lever) de sa chaise quand Élise (entrer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Il (conduire) lentement quand il (voir) le chien dans la ru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Autrefois on (habiter) au Québe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Ils (partir) pour Paris le 5 juill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Ils (partir) pour Paris lorsqu’ils (recevoir) les nouvelles de la mort de leur grand-pè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Il ne (savoir) pas la répon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0" y="-30528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0605a"/>
                </a:solidFill>
                <a:latin typeface="Arial"/>
              </a:rPr>
              <a:t>A vous maintenant….</a:t>
            </a:r>
            <a:endParaRPr b="0" lang="en-US" sz="44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-360" y="685440"/>
            <a:ext cx="75438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Le jeune homme poli, qui </a:t>
            </a:r>
            <a:r>
              <a:rPr b="1" lang="fr-FR" sz="3200" spc="-1" strike="noStrike">
                <a:solidFill>
                  <a:srgbClr val="a08f5e"/>
                </a:solidFill>
                <a:latin typeface="Arial"/>
              </a:rPr>
              <a:t>portait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un costume élégant, </a:t>
            </a:r>
            <a:r>
              <a:rPr b="1" lang="fr-FR" sz="3200" spc="-1" strike="noStrike">
                <a:solidFill>
                  <a:srgbClr val="a08f5e"/>
                </a:solidFill>
                <a:latin typeface="Arial"/>
              </a:rPr>
              <a:t>s’est levé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de sa chaise quand Élise </a:t>
            </a:r>
            <a:r>
              <a:rPr b="1" lang="fr-FR" sz="3200" spc="-1" strike="noStrike">
                <a:solidFill>
                  <a:srgbClr val="a08f5e"/>
                </a:solidFill>
                <a:latin typeface="Arial"/>
              </a:rPr>
              <a:t>est entrée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Il </a:t>
            </a:r>
            <a:r>
              <a:rPr b="1" lang="fr-FR" sz="3200" spc="-1" strike="noStrike">
                <a:solidFill>
                  <a:srgbClr val="a08f5e"/>
                </a:solidFill>
                <a:latin typeface="Arial"/>
              </a:rPr>
              <a:t>conduisait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lentement quand il </a:t>
            </a:r>
            <a:r>
              <a:rPr b="1" lang="fr-FR" sz="3200" spc="-1" strike="noStrike">
                <a:solidFill>
                  <a:srgbClr val="a08f5e"/>
                </a:solidFill>
                <a:latin typeface="Arial"/>
              </a:rPr>
              <a:t>a vu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le chien dans la ru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Autrefois on </a:t>
            </a:r>
            <a:r>
              <a:rPr b="1" lang="fr-FR" sz="3200" spc="-1" strike="noStrike">
                <a:solidFill>
                  <a:srgbClr val="a08f5e"/>
                </a:solidFill>
                <a:latin typeface="Arial"/>
              </a:rPr>
              <a:t>habitait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au Québe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Ils </a:t>
            </a:r>
            <a:r>
              <a:rPr b="1" lang="fr-FR" sz="3200" spc="-1" strike="noStrike">
                <a:solidFill>
                  <a:srgbClr val="a08f5e"/>
                </a:solidFill>
                <a:latin typeface="Arial"/>
              </a:rPr>
              <a:t>sont partis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pour Paris le 5 juill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Ils </a:t>
            </a:r>
            <a:r>
              <a:rPr b="1" lang="fr-FR" sz="3200" spc="-1" strike="noStrike">
                <a:solidFill>
                  <a:srgbClr val="a08f5e"/>
                </a:solidFill>
                <a:latin typeface="Arial"/>
              </a:rPr>
              <a:t>partaient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pour Paris lorsqu’ils </a:t>
            </a:r>
            <a:r>
              <a:rPr b="1" lang="fr-FR" sz="3200" spc="-1" strike="noStrike">
                <a:solidFill>
                  <a:srgbClr val="a08f5e"/>
                </a:solidFill>
                <a:latin typeface="Arial"/>
              </a:rPr>
              <a:t>ont reçu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les nouvelles de la mort de leur grand-pè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Il ne </a:t>
            </a:r>
            <a:r>
              <a:rPr b="1" lang="fr-FR" sz="3200" spc="-1" strike="noStrike">
                <a:solidFill>
                  <a:srgbClr val="a08f5e"/>
                </a:solidFill>
                <a:latin typeface="Arial"/>
              </a:rPr>
              <a:t>savait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pas la répon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80880" y="281916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0605a"/>
                </a:solidFill>
                <a:latin typeface="Arial"/>
              </a:rPr>
              <a:t>Le plus-que-parfait</a:t>
            </a:r>
            <a:endParaRPr b="0" lang="en-US" sz="4400" spc="-1" strike="noStrike">
              <a:solidFill>
                <a:srgbClr val="30605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0605a"/>
                </a:solidFill>
                <a:latin typeface="Arial"/>
              </a:rPr>
              <a:t>La conjugaison</a:t>
            </a:r>
            <a:endParaRPr b="0" lang="en-US" sz="44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361620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J’avais fa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Tu avais fa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On avait fa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Nous avions fa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Vous aviez fa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Ils avaient fa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276720" y="1599840"/>
            <a:ext cx="444960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J’étais parvenu(e)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SzPct val="102805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tu étais parvenu(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SzPct val="102805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Il était parven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SzPct val="102805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Elle était parven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SzPct val="102805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Nous étions parven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SzPct val="102805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Vous étiez parvenu (e)(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SzPct val="102805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Ils étaient parven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SzPct val="102805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Elles étaient parven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30605a"/>
                </a:solidFill>
                <a:latin typeface="Arial"/>
              </a:rPr>
              <a:t>Les verbes réfléchis au plus-que-parfait</a:t>
            </a:r>
            <a:endParaRPr b="0" lang="en-US" sz="28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228600" y="144792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Je m’étais dépêché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Tu t’étais dépêch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Il s’était dépêch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Elle s’était dépêché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Nous nous étions dépêché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Vous vous étiez dépêché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Ils s’étaient dépêché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SzPct val="10287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Elle s’étaient dépêché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0605a"/>
                </a:solidFill>
                <a:latin typeface="Arial"/>
              </a:rPr>
              <a:t>L’Usage</a:t>
            </a:r>
            <a:endParaRPr b="0" lang="en-US" sz="44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7386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Le plus-que-parfait est un temps relatif qui existe seulement par rapport à un autre temps passé.  Il s’emploie pour exprimer une action terminée avant une autre action au passé; c’est un temps chronologiquement plus passé que le passé composé ou l’imparfa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4"/>
          <p:cNvSpPr/>
          <p:nvPr/>
        </p:nvSpPr>
        <p:spPr>
          <a:xfrm>
            <a:off x="762120" y="5165640"/>
            <a:ext cx="693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a08f5e"/>
                </a:solidFill>
                <a:latin typeface="Times New Roman"/>
              </a:rPr>
              <a:t>Passé 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</a:t>
            </a:r>
            <a:r>
              <a:rPr b="1" lang="fr-FR" sz="2400" spc="-1" strike="noStrike">
                <a:solidFill>
                  <a:srgbClr val="a08f5e"/>
                </a:solidFill>
                <a:latin typeface="Times New Roman"/>
              </a:rPr>
              <a:t>Prés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Line 5"/>
          <p:cNvSpPr/>
          <p:nvPr/>
        </p:nvSpPr>
        <p:spPr>
          <a:xfrm>
            <a:off x="0" y="6019920"/>
            <a:ext cx="784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5790960" y="5257800"/>
            <a:ext cx="7596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Text Box 7"/>
          <p:cNvSpPr/>
          <p:nvPr/>
        </p:nvSpPr>
        <p:spPr>
          <a:xfrm>
            <a:off x="-123840" y="556272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Plus que parfa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Line 8"/>
          <p:cNvSpPr/>
          <p:nvPr/>
        </p:nvSpPr>
        <p:spPr>
          <a:xfrm flipH="1">
            <a:off x="2590560" y="5181480"/>
            <a:ext cx="7596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Text Box 9"/>
          <p:cNvSpPr/>
          <p:nvPr/>
        </p:nvSpPr>
        <p:spPr>
          <a:xfrm>
            <a:off x="3236040" y="5486400"/>
            <a:ext cx="25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Passé compos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reeform 10"/>
          <p:cNvSpPr/>
          <p:nvPr/>
        </p:nvSpPr>
        <p:spPr>
          <a:xfrm>
            <a:off x="2666880" y="6172200"/>
            <a:ext cx="676440" cy="219240"/>
          </a:xfrm>
          <a:custGeom>
            <a:avLst/>
            <a:gdLst/>
            <a:ahLst/>
            <a:rect l="l" t="t" r="r" b="b"/>
            <a:pathLst>
              <a:path w="426" h="103">
                <a:moveTo>
                  <a:pt x="0" y="65"/>
                </a:moveTo>
                <a:cubicBezTo>
                  <a:pt x="6" y="58"/>
                  <a:pt x="60" y="0"/>
                  <a:pt x="77" y="0"/>
                </a:cubicBezTo>
                <a:cubicBezTo>
                  <a:pt x="92" y="0"/>
                  <a:pt x="103" y="17"/>
                  <a:pt x="116" y="26"/>
                </a:cubicBezTo>
                <a:cubicBezTo>
                  <a:pt x="122" y="44"/>
                  <a:pt x="127" y="94"/>
                  <a:pt x="168" y="78"/>
                </a:cubicBezTo>
                <a:cubicBezTo>
                  <a:pt x="182" y="72"/>
                  <a:pt x="185" y="52"/>
                  <a:pt x="194" y="39"/>
                </a:cubicBezTo>
                <a:cubicBezTo>
                  <a:pt x="215" y="43"/>
                  <a:pt x="239" y="41"/>
                  <a:pt x="258" y="52"/>
                </a:cubicBezTo>
                <a:cubicBezTo>
                  <a:pt x="271" y="59"/>
                  <a:pt x="271" y="81"/>
                  <a:pt x="284" y="91"/>
                </a:cubicBezTo>
                <a:cubicBezTo>
                  <a:pt x="294" y="99"/>
                  <a:pt x="310" y="99"/>
                  <a:pt x="323" y="103"/>
                </a:cubicBezTo>
                <a:cubicBezTo>
                  <a:pt x="335" y="94"/>
                  <a:pt x="351" y="89"/>
                  <a:pt x="361" y="78"/>
                </a:cubicBezTo>
                <a:cubicBezTo>
                  <a:pt x="397" y="32"/>
                  <a:pt x="341" y="28"/>
                  <a:pt x="413" y="52"/>
                </a:cubicBezTo>
                <a:cubicBezTo>
                  <a:pt x="417" y="65"/>
                  <a:pt x="426" y="91"/>
                  <a:pt x="426" y="9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 Box 11"/>
          <p:cNvSpPr/>
          <p:nvPr/>
        </p:nvSpPr>
        <p:spPr>
          <a:xfrm>
            <a:off x="3074400" y="60800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imparfa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Freeform 13"/>
          <p:cNvSpPr/>
          <p:nvPr/>
        </p:nvSpPr>
        <p:spPr>
          <a:xfrm>
            <a:off x="4527720" y="6170760"/>
            <a:ext cx="1228680" cy="241200"/>
          </a:xfrm>
          <a:custGeom>
            <a:avLst/>
            <a:gdLst/>
            <a:ahLst/>
            <a:rect l="l" t="t" r="r" b="b"/>
            <a:pathLst>
              <a:path w="774" h="152">
                <a:moveTo>
                  <a:pt x="0" y="114"/>
                </a:moveTo>
                <a:cubicBezTo>
                  <a:pt x="4" y="101"/>
                  <a:pt x="0" y="80"/>
                  <a:pt x="13" y="75"/>
                </a:cubicBezTo>
                <a:cubicBezTo>
                  <a:pt x="38" y="64"/>
                  <a:pt x="85" y="102"/>
                  <a:pt x="103" y="114"/>
                </a:cubicBezTo>
                <a:cubicBezTo>
                  <a:pt x="116" y="101"/>
                  <a:pt x="124" y="79"/>
                  <a:pt x="142" y="75"/>
                </a:cubicBezTo>
                <a:cubicBezTo>
                  <a:pt x="199" y="62"/>
                  <a:pt x="247" y="110"/>
                  <a:pt x="297" y="127"/>
                </a:cubicBezTo>
                <a:cubicBezTo>
                  <a:pt x="351" y="89"/>
                  <a:pt x="362" y="105"/>
                  <a:pt x="400" y="49"/>
                </a:cubicBezTo>
                <a:cubicBezTo>
                  <a:pt x="395" y="36"/>
                  <a:pt x="377" y="19"/>
                  <a:pt x="387" y="10"/>
                </a:cubicBezTo>
                <a:cubicBezTo>
                  <a:pt x="396" y="0"/>
                  <a:pt x="412" y="20"/>
                  <a:pt x="426" y="23"/>
                </a:cubicBezTo>
                <a:cubicBezTo>
                  <a:pt x="451" y="28"/>
                  <a:pt x="477" y="31"/>
                  <a:pt x="503" y="36"/>
                </a:cubicBezTo>
                <a:cubicBezTo>
                  <a:pt x="492" y="46"/>
                  <a:pt x="441" y="85"/>
                  <a:pt x="451" y="114"/>
                </a:cubicBezTo>
                <a:cubicBezTo>
                  <a:pt x="456" y="131"/>
                  <a:pt x="477" y="139"/>
                  <a:pt x="490" y="152"/>
                </a:cubicBezTo>
                <a:cubicBezTo>
                  <a:pt x="507" y="147"/>
                  <a:pt x="529" y="151"/>
                  <a:pt x="542" y="139"/>
                </a:cubicBezTo>
                <a:cubicBezTo>
                  <a:pt x="554" y="126"/>
                  <a:pt x="538" y="93"/>
                  <a:pt x="555" y="88"/>
                </a:cubicBezTo>
                <a:cubicBezTo>
                  <a:pt x="569" y="83"/>
                  <a:pt x="569" y="116"/>
                  <a:pt x="580" y="127"/>
                </a:cubicBezTo>
                <a:cubicBezTo>
                  <a:pt x="590" y="137"/>
                  <a:pt x="606" y="143"/>
                  <a:pt x="619" y="152"/>
                </a:cubicBezTo>
                <a:cubicBezTo>
                  <a:pt x="662" y="21"/>
                  <a:pt x="622" y="74"/>
                  <a:pt x="671" y="114"/>
                </a:cubicBezTo>
                <a:cubicBezTo>
                  <a:pt x="681" y="122"/>
                  <a:pt x="696" y="122"/>
                  <a:pt x="709" y="127"/>
                </a:cubicBezTo>
                <a:cubicBezTo>
                  <a:pt x="713" y="101"/>
                  <a:pt x="705" y="69"/>
                  <a:pt x="722" y="49"/>
                </a:cubicBezTo>
                <a:cubicBezTo>
                  <a:pt x="730" y="38"/>
                  <a:pt x="751" y="52"/>
                  <a:pt x="761" y="62"/>
                </a:cubicBezTo>
                <a:cubicBezTo>
                  <a:pt x="770" y="71"/>
                  <a:pt x="774" y="101"/>
                  <a:pt x="774" y="10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Freeform 14"/>
          <p:cNvSpPr/>
          <p:nvPr/>
        </p:nvSpPr>
        <p:spPr>
          <a:xfrm>
            <a:off x="1676520" y="5079960"/>
            <a:ext cx="2514600" cy="482760"/>
          </a:xfrm>
          <a:custGeom>
            <a:avLst/>
            <a:gdLst/>
            <a:ahLst/>
            <a:rect l="l" t="t" r="r" b="b"/>
            <a:pathLst>
              <a:path w="1584" h="304">
                <a:moveTo>
                  <a:pt x="1584" y="208"/>
                </a:moveTo>
                <a:cubicBezTo>
                  <a:pt x="1212" y="104"/>
                  <a:pt x="840" y="0"/>
                  <a:pt x="576" y="16"/>
                </a:cubicBezTo>
                <a:cubicBezTo>
                  <a:pt x="312" y="32"/>
                  <a:pt x="96" y="256"/>
                  <a:pt x="0" y="30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0605a"/>
                </a:solidFill>
                <a:latin typeface="Arial"/>
              </a:rPr>
              <a:t>Exemples</a:t>
            </a:r>
            <a:endParaRPr b="0" lang="en-US" sz="44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76320" y="1598760"/>
            <a:ext cx="75736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Parce que Georges </a:t>
            </a:r>
            <a:r>
              <a:rPr b="1" lang="fr-FR" sz="3200" spc="-1" strike="noStrike">
                <a:solidFill>
                  <a:srgbClr val="a08f5e"/>
                </a:solidFill>
                <a:latin typeface="Arial"/>
              </a:rPr>
              <a:t>n’avait pas fini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ses devoirs, nous ne sommes pas allés au ciném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Puis qu’il </a:t>
            </a:r>
            <a:r>
              <a:rPr b="1" lang="fr-FR" sz="3200" spc="-1" strike="noStrike">
                <a:solidFill>
                  <a:srgbClr val="a08f5e"/>
                </a:solidFill>
                <a:latin typeface="Arial"/>
              </a:rPr>
              <a:t>était arrivé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en retard, Pierre essayait de manger plus vite que d’habitude quand on a commencé à débarrasser la t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Elle a perdu la montre que son père lui </a:t>
            </a:r>
            <a:r>
              <a:rPr b="1" lang="fr-FR" sz="3200" spc="-1" strike="noStrike">
                <a:solidFill>
                  <a:srgbClr val="a08f5e"/>
                </a:solidFill>
                <a:latin typeface="Arial"/>
              </a:rPr>
              <a:t>avait offerte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pour son anniversai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0605a"/>
                </a:solidFill>
                <a:latin typeface="Arial"/>
              </a:rPr>
              <a:t>N’oubliez pas….</a:t>
            </a:r>
            <a:endParaRPr b="0" lang="en-US" sz="44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a08f5e"/>
                </a:solidFill>
                <a:latin typeface="Arial"/>
              </a:rPr>
              <a:t>On peut aussi employer le plus-que-parfait dans une phrase conditionnel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S’il </a:t>
            </a:r>
            <a:r>
              <a:rPr b="1" lang="fr-FR" sz="3200" spc="-1" strike="noStrike">
                <a:solidFill>
                  <a:srgbClr val="a08f5e"/>
                </a:solidFill>
                <a:latin typeface="Arial"/>
              </a:rPr>
              <a:t>n’avait pas plu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, nous serions allés à la pla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Si Ugolin et Papet </a:t>
            </a:r>
            <a:r>
              <a:rPr b="1" lang="fr-FR" sz="3200" spc="-1" strike="noStrike">
                <a:solidFill>
                  <a:srgbClr val="a08f5e"/>
                </a:solidFill>
                <a:latin typeface="Arial"/>
              </a:rPr>
              <a:t>avaient été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honnêtes, Jean de Florette ne serait pas m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0605a"/>
                </a:solidFill>
                <a:latin typeface="Arial"/>
              </a:rPr>
              <a:t>A vous: mettez les verbes au plus-que-parfait</a:t>
            </a:r>
            <a:endParaRPr b="0" lang="en-US" sz="44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Vous aviez faim parce que vous ne pas (déjeun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Au café elle a choisi la table où elle (s’installer) h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Je (finir) mes devoirs lorsque mon ami est venu me cherc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Le train (partir) de la gare quand nous y sommes arrivés en reta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30605a"/>
                </a:solidFill>
                <a:latin typeface="Arial"/>
              </a:rPr>
              <a:t>L’Imparfait ou le Passé Composé?</a:t>
            </a:r>
            <a:endParaRPr b="0" lang="en-US" sz="44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50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Quand j’être petite, je ne savoir pas li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Le cambrioleur entrer dans la chambre et il prendre les bijoux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Il être petit et gr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Elle prendre un bain lorsque le téléphone sonn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Je vouloir acheter un nouveau roman mais je ne avoir pas d’arg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0605a"/>
                </a:solidFill>
                <a:latin typeface="Arial"/>
              </a:rPr>
              <a:t>A vous: mettez les verbes au plus-que-parfait</a:t>
            </a:r>
            <a:endParaRPr b="0" lang="en-US" sz="44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50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Vous aviez faim parce que vous </a:t>
            </a:r>
            <a:r>
              <a:rPr b="1" lang="fr-FR" sz="3200" spc="-1" strike="noStrike">
                <a:solidFill>
                  <a:srgbClr val="a08f5e"/>
                </a:solidFill>
                <a:latin typeface="Arial"/>
              </a:rPr>
              <a:t>n’aviez pas déjeuné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Au café elle a choisi la table où elle </a:t>
            </a:r>
            <a:r>
              <a:rPr b="1" lang="fr-FR" sz="3200" spc="-1" strike="noStrike">
                <a:solidFill>
                  <a:srgbClr val="a08f5e"/>
                </a:solidFill>
                <a:latin typeface="Arial"/>
              </a:rPr>
              <a:t>s’était installée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h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1" lang="fr-FR" sz="3200" spc="-1" strike="noStrike">
                <a:solidFill>
                  <a:srgbClr val="a08f5e"/>
                </a:solidFill>
                <a:latin typeface="Arial"/>
              </a:rPr>
              <a:t>’avais (déjà) fini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mes devoirs lorsque mon ami est venu me cherc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Le train </a:t>
            </a:r>
            <a:r>
              <a:rPr b="1" lang="fr-FR" sz="3200" spc="-1" strike="noStrike">
                <a:solidFill>
                  <a:srgbClr val="a08f5e"/>
                </a:solidFill>
                <a:latin typeface="Arial"/>
              </a:rPr>
              <a:t>était (déjà) parti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de la gare quand nous y sommes arrivés en reta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AutoShape 4"/>
          <p:cNvSpPr/>
          <p:nvPr/>
        </p:nvSpPr>
        <p:spPr>
          <a:xfrm>
            <a:off x="685800" y="609480"/>
            <a:ext cx="6400800" cy="5639040"/>
          </a:xfrm>
          <a:custGeom>
            <a:avLst/>
            <a:gdLst>
              <a:gd name="textAreaLeft" fmla="*/ 1461240 w 6400800"/>
              <a:gd name="textAreaRight" fmla="*/ 4939560 w 6400800"/>
              <a:gd name="textAreaTop" fmla="*/ 1287360 h 5639040"/>
              <a:gd name="textAreaBottom" fmla="*/ 4351680 h 56390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a4c6b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800" spc="-1" strike="noStrike">
                <a:solidFill>
                  <a:srgbClr val="a08f5e"/>
                </a:solidFill>
                <a:latin typeface="Times New Roman"/>
              </a:rPr>
              <a:t>LA FIN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30605a"/>
                </a:solidFill>
                <a:latin typeface="Arial"/>
              </a:rPr>
              <a:t>L’Imparfait ou le Passé Composé?</a:t>
            </a:r>
            <a:endParaRPr b="0" lang="en-US" sz="44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50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Quand j’</a:t>
            </a:r>
            <a:r>
              <a:rPr b="1" lang="fr-FR" sz="3200" spc="-1" strike="noStrike">
                <a:solidFill>
                  <a:srgbClr val="a08f5e"/>
                </a:solidFill>
                <a:latin typeface="Arial"/>
              </a:rPr>
              <a:t>étais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petite, je ne </a:t>
            </a:r>
            <a:r>
              <a:rPr b="1" lang="fr-FR" sz="3200" spc="-1" strike="noStrike">
                <a:solidFill>
                  <a:srgbClr val="a08f5e"/>
                </a:solidFill>
                <a:latin typeface="Arial"/>
              </a:rPr>
              <a:t>savais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pas li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Le cambrioleur </a:t>
            </a:r>
            <a:r>
              <a:rPr b="1" lang="fr-FR" sz="3200" spc="-1" strike="noStrike">
                <a:solidFill>
                  <a:srgbClr val="a08f5e"/>
                </a:solidFill>
                <a:latin typeface="Arial"/>
              </a:rPr>
              <a:t>est entré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dans la chambre et il </a:t>
            </a:r>
            <a:r>
              <a:rPr b="1" lang="fr-FR" sz="3200" spc="-1" strike="noStrike">
                <a:solidFill>
                  <a:srgbClr val="a08f5e"/>
                </a:solidFill>
                <a:latin typeface="Arial"/>
              </a:rPr>
              <a:t>a pris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les bijoux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Il </a:t>
            </a:r>
            <a:r>
              <a:rPr b="1" lang="fr-FR" sz="3200" spc="-1" strike="noStrike">
                <a:solidFill>
                  <a:srgbClr val="a08f5e"/>
                </a:solidFill>
                <a:latin typeface="Arial"/>
              </a:rPr>
              <a:t>était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petit et gr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Elle </a:t>
            </a:r>
            <a:r>
              <a:rPr b="1" lang="fr-FR" sz="3200" spc="-1" strike="noStrike">
                <a:solidFill>
                  <a:srgbClr val="a08f5e"/>
                </a:solidFill>
                <a:latin typeface="Arial"/>
              </a:rPr>
              <a:t>prenait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un bain lorsque le téléphone </a:t>
            </a:r>
            <a:r>
              <a:rPr b="1" lang="fr-FR" sz="3200" spc="-1" strike="noStrike">
                <a:solidFill>
                  <a:srgbClr val="a08f5e"/>
                </a:solidFill>
                <a:latin typeface="Arial"/>
              </a:rPr>
              <a:t>a sonné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Je </a:t>
            </a:r>
            <a:r>
              <a:rPr b="1" lang="fr-FR" sz="3200" spc="-1" strike="noStrike">
                <a:solidFill>
                  <a:srgbClr val="a08f5e"/>
                </a:solidFill>
                <a:latin typeface="Arial"/>
              </a:rPr>
              <a:t>voulais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acheter un nouveau roman mais je n’</a:t>
            </a:r>
            <a:r>
              <a:rPr b="1" lang="fr-FR" sz="3200" spc="-1" strike="noStrike">
                <a:solidFill>
                  <a:srgbClr val="a08f5e"/>
                </a:solidFill>
                <a:latin typeface="Arial"/>
              </a:rPr>
              <a:t>avais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pas d’arg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0605a"/>
                </a:solidFill>
                <a:latin typeface="Arial"/>
              </a:rPr>
              <a:t>Le Passé Composé….</a:t>
            </a:r>
            <a:endParaRPr b="0" lang="en-US" sz="44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marque une action précise terminée, ou une série d’actions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a08f5e"/>
                </a:solidFill>
                <a:latin typeface="Arial"/>
              </a:rPr>
              <a:t>Il est entré dans la chambre où il a pris les bijoux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marque une action à un temps spécifique dans le pass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a08f5e"/>
                </a:solidFill>
                <a:latin typeface="Arial"/>
              </a:rPr>
              <a:t>Hier on est allé au ciném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0605a"/>
                </a:solidFill>
                <a:latin typeface="Arial"/>
              </a:rPr>
              <a:t>L’imparfait….</a:t>
            </a:r>
            <a:endParaRPr b="0" lang="en-US" sz="44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63520" y="1219320"/>
            <a:ext cx="73864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décrit et encadre au pass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a08f5e"/>
                </a:solidFill>
                <a:latin typeface="Arial"/>
              </a:rPr>
              <a:t>Il faisait beau; l’homme était petit et gr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a08f5e"/>
                </a:solidFill>
                <a:latin typeface="Arial"/>
              </a:rPr>
              <a:t>La visibilité était mauvaise parce qu’il pleuvait à ver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Exprime une action habituelle ou répétée au pass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a08f5e"/>
                </a:solidFill>
                <a:latin typeface="Arial"/>
              </a:rPr>
              <a:t>L’année dernière je me réveillais tous les matins avant l’aub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a08f5e"/>
                </a:solidFill>
                <a:latin typeface="Arial"/>
              </a:rPr>
              <a:t>Quand il était jeune, il faisait du vél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a08f5e"/>
                </a:solidFill>
                <a:latin typeface="Arial"/>
              </a:rPr>
              <a:t>Autrefois il fallait toute une semaine pour aller en Europ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0605a"/>
                </a:solidFill>
                <a:latin typeface="Arial"/>
              </a:rPr>
              <a:t>L’imparfait….</a:t>
            </a:r>
            <a:endParaRPr b="0" lang="en-US" sz="44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exprime une situation qui peut être interrompue par une action préc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a08f5e"/>
                </a:solidFill>
                <a:latin typeface="Arial"/>
              </a:rPr>
              <a:t>Je dormais quand le téléphone a sonn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a08f5e"/>
                </a:solidFill>
                <a:latin typeface="Arial"/>
              </a:rPr>
              <a:t>On jouait au foot quand il a commencé à pleuvoi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a08f5e"/>
                </a:solidFill>
                <a:latin typeface="Arial"/>
              </a:rPr>
              <a:t>Claire mangeait quand elle a  trouvé un cheveu dans sa sala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0605a"/>
                </a:solidFill>
                <a:latin typeface="Arial"/>
              </a:rPr>
              <a:t>L’imparfait….</a:t>
            </a:r>
            <a:endParaRPr b="0" lang="en-US" sz="44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est le temps le plus courant pour les verbes d’état comm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a08f5e"/>
                </a:solidFill>
                <a:latin typeface="Arial"/>
              </a:rPr>
              <a:t>Penser, croire, connaître, savoir, vouloir, pouvoir, espérer, préférer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a08f5e"/>
                </a:solidFill>
                <a:latin typeface="Arial"/>
              </a:rPr>
              <a:t>    </a:t>
            </a:r>
            <a:r>
              <a:rPr b="1" lang="fr-FR" sz="3200" spc="-1" strike="noStrike">
                <a:solidFill>
                  <a:srgbClr val="a08f5e"/>
                </a:solidFill>
                <a:latin typeface="Arial"/>
              </a:rPr>
              <a:t>avoir, êt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160e"/>
                </a:solidFill>
                <a:latin typeface="Arial"/>
              </a:rPr>
              <a:t>Attention: le sens de quelques verbes change au passé compos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0605a"/>
                </a:solidFill>
                <a:latin typeface="Arial"/>
              </a:rPr>
              <a:t>Attention:</a:t>
            </a:r>
            <a:endParaRPr b="0" lang="en-US" sz="44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1620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J’ai voul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Jai s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J’ai conn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J’ai e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J’ai ét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743200" y="1598760"/>
            <a:ext cx="490680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tried (but fail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I found o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I met (for the first tim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I got, became, turn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I got, became, turned, w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6"/>
          <p:cNvSpPr/>
          <p:nvPr/>
        </p:nvSpPr>
        <p:spPr>
          <a:xfrm>
            <a:off x="457200" y="4572000"/>
            <a:ext cx="71629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a08f5e"/>
                </a:solidFill>
                <a:latin typeface="Times New Roman"/>
              </a:rPr>
              <a:t>J’ai voulu sortir, mais je n’avais pas fini mes devoi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a08f5e"/>
                </a:solidFill>
                <a:latin typeface="Times New Roman"/>
              </a:rPr>
              <a:t>Le 28 décembre 2000, j’ai eu 50 a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a08f5e"/>
                </a:solidFill>
                <a:latin typeface="Times New Roman"/>
              </a:rPr>
              <a:t>J’ai eu peur quand j’ai vu le fantô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a08f5e"/>
                </a:solidFill>
                <a:latin typeface="Times New Roman"/>
              </a:rPr>
              <a:t>J’ai été malade après avoir mangé les crevet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a08f5e"/>
                </a:solidFill>
                <a:latin typeface="Times New Roman"/>
              </a:rPr>
              <a:t>J’ai été à Paris l’été derni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0605a"/>
                </a:solidFill>
                <a:latin typeface="Arial"/>
              </a:rPr>
              <a:t>Quelques  indices pour l’imparfait</a:t>
            </a:r>
            <a:endParaRPr b="0" lang="en-US" sz="44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1620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Autrefo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Chaque jour, mo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De temps en tem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D’habitu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En géné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Général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Habituell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Le lundi, le mard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962160" y="1523520"/>
            <a:ext cx="419076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Fréquem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Parfo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Quelquefo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Souv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Toujou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Tous les jours (moi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Tout le tem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2T23:24:08Z</dcterms:created>
  <dc:creator>Sandra Howard</dc:creator>
  <dc:description/>
  <dc:language>en-US</dc:language>
  <cp:lastModifiedBy>Christopher Levy</cp:lastModifiedBy>
  <cp:lastPrinted>2005-07-22T23:36:32Z</cp:lastPrinted>
  <dcterms:modified xsi:type="dcterms:W3CDTF">2016-03-29T03:25:30Z</dcterms:modified>
  <cp:revision>36</cp:revision>
  <dc:subject/>
  <dc:title>Le Passé Composé et l’Imparfait</dc:title>
</cp:coreProperties>
</file>